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B0AC-777F-41D4-ABA0-1A742ECB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1FA8-C293-44B6-A46D-D40B54EA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3E33-2978-48AB-A920-C90B7C4C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FEEE-3DDB-4955-A08A-4BDE8B13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7F2C-A8D1-4329-941E-1A3FEDA7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3EE9-6134-409E-A4F8-25CA0615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61B2-31B1-423A-9F3A-C1AB4ADC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0B24-5D1D-4F6F-A6EA-B757EC6A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EB6A-317A-4770-8E95-7529C8A2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E0F7-5F69-4C01-8AD8-DC65EAD3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3819-72A4-4269-B183-12E0E344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D049-DDBE-49E7-8D0E-93F0F619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E162-2DA9-4DFD-8037-A220ECA0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F72A-D2DD-4F40-9B69-5C9B25FC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8831-DABC-4251-A27E-DC83471B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3F6E-9CF5-4122-B38F-9F2356AE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10FB-64F0-425E-BBED-DC7F98B36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6CBAD-8972-4E5E-9751-C4071B01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530A4-A0FE-4C2C-90E9-7BF13127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87740-ED13-4AFD-9EDE-7FBD310A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CF584-DBD1-403A-807C-7CEA7596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94C81-7226-4625-BFF4-0EA8594D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AA78-4A2F-4BC3-9C01-70D34457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E5896-B883-4438-BB1A-F0E1EA04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12F37-5232-43ED-A318-BC7BB04A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5CA5C-E76B-46CE-A9F1-6AB7411D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64B30-8F8B-4156-8396-F045A7E2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22C8C-8C74-41CB-8279-8E6CB2D2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0B734-BF9A-421D-9072-96A513A2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9CE4E-23BA-4EBC-BF25-925EF1F1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32CDA-4F9E-497E-AD9E-9698104A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42010-52C9-4A3B-9DC1-67F7C39D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C1702-DF9B-4F14-8E72-37357845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02BE-BA53-493E-8A8A-1A3A8CB6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DFBEB-39A3-49AD-ABC2-9010A7AA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B060B-5950-4EA8-901B-D93D1DF6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24892-81FB-4DCD-9D27-1D8F16C2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1298E-A80E-49B9-9401-867C5776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27846-8435-49AB-BF81-C8AA6DEC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DE306-B6E0-4894-9E32-4408D014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5CF5A-CBFE-43DE-8C40-C08EAB0D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C92C3-31EC-47BA-B819-C6B593D9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C972E-A82E-4644-B209-4587B029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BEC24-EE2D-46F5-8092-47874CB6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350F-4A30-477A-AAF6-2D87BDD1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A376C-7F2C-4D35-8461-6F7AA89F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D60A6-790D-4AD3-904C-42A4D100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11AA2-15C7-4E54-A678-228ABA2D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D04BB-3B67-4D00-AF54-B92036F4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D3721-667B-4DE5-B17B-573982F7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B1615-8EF4-4492-B073-672331C6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8621B-3A17-4DE2-8AD9-EC44DB08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2FFE8-F9DD-4F33-92A7-82E85109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5BD3D-E403-4081-8FC9-61DD7010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19F7C-0C30-43FC-964F-E708A78B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0256-674D-4361-A26D-E4518C2D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E62A4-FEA6-49FE-9909-09AC982F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C810-B5D9-4D02-8B19-1CA48C50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7E8F-67F8-4562-879C-66ACDBD5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12CF-B76D-49C6-91F0-EB12A63B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5a788"/>
                </a:solidFill>
                <a:latin typeface="Times New Roman"/>
              </a:rPr>
              <a:t>17 settembre 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5a788"/>
                </a:solidFill>
                <a:latin typeface="Gill Sans MT"/>
              </a:rPr>
              <a:t>"Didattica e Lim"- I.C. Altavilla Mili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AEF2-E39A-4928-8446-7CD892AD183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ort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Anello 8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" name="Anello 8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ttangolo 9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ttangolo 10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5a788"/>
                </a:solidFill>
                <a:latin typeface="Times New Roman"/>
              </a:rPr>
              <a:t>17 settembre 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5a788"/>
                </a:solidFill>
                <a:latin typeface="Gill Sans MT"/>
              </a:rPr>
              <a:t>"Didattica e Lim"- I.C. Altavilla Mili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AE5C-D330-4654-8ED5-F8BE95AA1AF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ttangolo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ttangolo 7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Ovale 8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92" name="Ovale 8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Ovale 9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5a788"/>
                </a:solidFill>
                <a:latin typeface="Times New Roman"/>
              </a:rPr>
              <a:t>17 settembre 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5a788"/>
                </a:solidFill>
                <a:latin typeface="Gill Sans MT"/>
              </a:rPr>
              <a:t>"Didattica e Lim"- I.C. Altavilla Mili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170F-B53E-4F5B-BA2B-3467F1BAE6D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ort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Anello 8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39" name="Anello 8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ttangolo 9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ttangolo 10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5a788"/>
                </a:solidFill>
                <a:latin typeface="Times New Roman"/>
              </a:rPr>
              <a:t>17 settembre 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5a788"/>
                </a:solidFill>
                <a:latin typeface="Gill Sans MT"/>
              </a:rPr>
              <a:t>"Didattica e Lim"- I.C. Altavilla Mili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946B-A346-45AC-8632-22C3700901B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ort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Anello 8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87" name="Anello 8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ttangolo 9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ttangolo 10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5a788"/>
                </a:solidFill>
                <a:latin typeface="Times New Roman"/>
              </a:rPr>
              <a:t>17 settembre 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b5a788"/>
                </a:solidFill>
                <a:latin typeface="Gill Sans MT"/>
              </a:rPr>
              <a:t>"Didattica e Lim"- I.C. Altavilla Mili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2F1F-25F5-49B7-AB3B-3DF61629292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TgK4HEGPwQ" TargetMode="External"/><Relationship Id="rId2" Type="http://schemas.openxmlformats.org/officeDocument/2006/relationships/image" Target="../media/image6.png"/><Relationship Id="rId3" Type="http://schemas.openxmlformats.org/officeDocument/2006/relationships/hyperlink" Target="file:///UNESCO_ICT_CFT%5B6_0%5D.pdf" TargetMode="Externa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video/Lim_Italiano_Montelupo.flv" TargetMode="External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aEFKfXiCbLw" TargetMode="External"/><Relationship Id="rId2" Type="http://schemas.openxmlformats.org/officeDocument/2006/relationships/hyperlink" Target="file:///Hai%20prestato%20attenzione_%20%5Bwww.keepvid.com%5D.avi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cerchi2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1714680"/>
            <a:ext cx="7407360" cy="111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LIM  E  DIDATTICA.</a:t>
            </a:r>
            <a:br>
              <a:rPr sz="2400"/>
            </a:b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Per un  orizzonte di senso  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1042920" y="2997360"/>
            <a:ext cx="7632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Corso di formazione docent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“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im in classe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”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f271c"/>
                </a:solidFill>
                <a:latin typeface="Gill Sans MT"/>
              </a:rPr>
              <a:t>Palerm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f271c"/>
                </a:solidFill>
                <a:latin typeface="Gill Sans MT"/>
              </a:rPr>
              <a:t>8 settembr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f271c"/>
                </a:solidFill>
                <a:latin typeface="Gill Sans MT"/>
              </a:rPr>
              <a:t>a cura di Loredana Pecorar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428920" y="-214560"/>
            <a:ext cx="6400800" cy="15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0e04"/>
                </a:solidFill>
                <a:latin typeface="Arial"/>
              </a:rPr>
              <a:t>Mi scusi, ma per andare dove dobbiamo andare, per dove dobbiamo anda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1285920"/>
            <a:ext cx="3133800" cy="4332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285840" y="4572000"/>
            <a:ext cx="8858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8dc765"/>
                </a:solidFill>
                <a:uFillTx/>
                <a:latin typeface="Arial"/>
                <a:hlinkClick r:id="rId3"/>
              </a:rPr>
              <a:t>UNESCO QUADRO DI RIFERIMENTO DELLE _x000b_COMPETENZE PER I DOCENTI SULLE TIC </a:t>
            </a:r>
            <a:br>
              <a:rPr sz="1600"/>
            </a:br>
            <a:r>
              <a:rPr b="1" lang="it-IT" sz="1600" spc="-1" strike="noStrike">
                <a:solidFill>
                  <a:srgbClr val="572314"/>
                </a:solidFill>
                <a:latin typeface="Arial"/>
              </a:rPr>
              <a:t>(TECNOLOGIE DELL’INFORMAZIONE E DELLA COMUNICAZIONE) </a:t>
            </a:r>
            <a:endParaRPr b="0" lang="en-US" sz="1600" spc="-1" strike="noStrike">
              <a:solidFill>
                <a:srgbClr val="5723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300" spc="-1" strike="noStrike">
                <a:solidFill>
                  <a:srgbClr val="572314"/>
                </a:solidFill>
                <a:latin typeface="Gill Sans MT"/>
              </a:rPr>
              <a:t>Indicazioni per il curricolo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alla  scuola del nuovo scenario spetta il compit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offrire agli studenti occasioni di apprendimento dei saperi e dei linguaggi culturali di ba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far sì che gli studenti acquisiscano gli strumenti di pensiero necessari per apprendere a selezionare le informazion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promuovere negli studenti la capacità di elaborare metodi e categorie che siano in grado di fare da bussola negli itinerari personal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favorire l’autonomia di pensiero degli studenti, orientando la propria didattica alla costruzione di saperi a partire da concreti bisogni formativi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5720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572314"/>
                </a:solidFill>
                <a:latin typeface="Gill Sans MT"/>
              </a:rPr>
              <a:t>Competenze chiave di cittadinanza</a:t>
            </a:r>
            <a:br>
              <a:rPr sz="3200"/>
            </a:br>
            <a:r>
              <a:rPr b="1" lang="it-IT" sz="1400" spc="-1" strike="noStrike">
                <a:solidFill>
                  <a:srgbClr val="572314"/>
                </a:solidFill>
                <a:latin typeface="Gill Sans MT"/>
              </a:rPr>
              <a:t>da acquisire al termine dell’istruzione obbligatoria</a:t>
            </a:r>
            <a:endParaRPr b="0" lang="en-US" sz="14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6920" y="1052280"/>
            <a:ext cx="767556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1" lang="it-IT" sz="1600" spc="-1" strike="noStrike">
                <a:solidFill>
                  <a:srgbClr val="000000"/>
                </a:solidFill>
                <a:latin typeface="Gill Sans MT"/>
              </a:rPr>
              <a:t>Imparare ad impar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1" lang="it-IT" sz="1600" spc="-1" strike="noStrike">
                <a:solidFill>
                  <a:srgbClr val="000000"/>
                </a:solidFill>
                <a:latin typeface="Gill Sans MT"/>
              </a:rPr>
              <a:t>Proget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1" lang="it-IT" sz="1600" spc="-1" strike="noStrike">
                <a:solidFill>
                  <a:srgbClr val="000000"/>
                </a:solidFill>
                <a:latin typeface="Gill Sans MT"/>
              </a:rPr>
              <a:t>Comuni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Gill Sans MT"/>
              </a:rPr>
              <a:t>comprendere </a:t>
            </a: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messaggi di genere diverso (quotidiano, letterario, tecnico, scientifico)e di complessità diversa, trasmessi utilizzando linguaggi diversi (verbale,matematico, scientifico, simbolico, ecc.) mediante diversi supporti (cartacei,informatici e multimedial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it-IT" sz="1600" spc="-1" strike="noStrike">
                <a:solidFill>
                  <a:srgbClr val="000000"/>
                </a:solidFill>
                <a:latin typeface="Gill Sans MT"/>
              </a:rPr>
              <a:t>rappresentare </a:t>
            </a: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eventi, fenomeni, principi, concetti, norme, procedure, atteggiamenti, stati d’animo, emozioni, ecc. utilizzando linguaggi diversi (verbale, matematico, scientifico, simbolico, ecc.) e diverse conoscenze disciplinari, mediante diversi supporti (cartacei, informatici e multimedial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1" lang="it-IT" sz="1600" spc="-1" strike="noStrike">
                <a:solidFill>
                  <a:srgbClr val="000000"/>
                </a:solidFill>
                <a:latin typeface="Gill Sans MT"/>
              </a:rPr>
              <a:t>Collaborare e partecip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1" lang="it-IT" sz="1600" spc="-1" strike="noStrike">
                <a:solidFill>
                  <a:srgbClr val="000000"/>
                </a:solidFill>
                <a:latin typeface="Gill Sans MT"/>
              </a:rPr>
              <a:t>Agire in modo autonomo e responsab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1" lang="it-IT" sz="1600" spc="-1" strike="noStrike">
                <a:solidFill>
                  <a:srgbClr val="000000"/>
                </a:solidFill>
                <a:latin typeface="Gill Sans MT"/>
              </a:rPr>
              <a:t>Risolvere proble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1" lang="it-IT" sz="1600" spc="-1" strike="noStrike">
                <a:solidFill>
                  <a:srgbClr val="000000"/>
                </a:solidFill>
                <a:latin typeface="Gill Sans MT"/>
              </a:rPr>
              <a:t>Acquisire ed interpretare l’informazione</a:t>
            </a:r>
            <a:r>
              <a:rPr b="0" lang="it-IT" sz="1600" spc="-1" strike="noStrike">
                <a:solidFill>
                  <a:srgbClr val="000000"/>
                </a:solidFill>
                <a:latin typeface="Gill Sans MT"/>
              </a:rPr>
              <a:t>: acquisire ed interpretare criticamente l'informazione ricevuta nei diversi ambiti ed attraverso diversi strumenti comunicativi, valutandone l’attendibilità e l’utilità, distinguendo fatti e opinion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2340000" y="6583320"/>
            <a:ext cx="49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.M. 139 del 22 Agosto 2007, Allega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785600" y="1000080"/>
            <a:ext cx="7358040" cy="15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3000"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20e04"/>
                </a:solidFill>
                <a:latin typeface="Arial"/>
              </a:rPr>
              <a:t>Competenze chia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20e04"/>
                </a:solidFill>
                <a:latin typeface="Arial"/>
              </a:rPr>
              <a:t>per l’apprendimento perma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20e04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20e04"/>
                </a:solidFill>
                <a:latin typeface="Arial"/>
              </a:rPr>
              <a:t>indicate dalle Raccomandazioni del Parlamento europeo e del Consig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320e04"/>
                </a:solidFill>
                <a:latin typeface="Arial"/>
              </a:rPr>
              <a:t>del 18 dicembre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rcRect l="23062" t="45901" r="14349" b="12111"/>
          <a:stretch/>
        </p:blipFill>
        <p:spPr>
          <a:xfrm>
            <a:off x="642960" y="2857680"/>
            <a:ext cx="8143920" cy="3071520"/>
          </a:xfrm>
          <a:prstGeom prst="rect">
            <a:avLst/>
          </a:prstGeom>
          <a:ln w="0">
            <a:noFill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</p:pic>
      <p:sp>
        <p:nvSpPr>
          <p:cNvPr id="276" name="Text Box 5"/>
          <p:cNvSpPr/>
          <p:nvPr/>
        </p:nvSpPr>
        <p:spPr>
          <a:xfrm>
            <a:off x="2340000" y="6583320"/>
            <a:ext cx="49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.M. 139 del 22 Agosto 2007, Allegat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e 6"/>
          <p:cNvSpPr/>
          <p:nvPr/>
        </p:nvSpPr>
        <p:spPr>
          <a:xfrm>
            <a:off x="928800" y="4286160"/>
            <a:ext cx="2643120" cy="428760"/>
          </a:xfrm>
          <a:prstGeom prst="ellipse">
            <a:avLst/>
          </a:prstGeom>
          <a:solidFill>
            <a:srgbClr val="3891a7">
              <a:alpha val="21000"/>
            </a:srgbClr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3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rcRect l="21413" t="14651" r="55940" b="76565"/>
          <a:stretch/>
        </p:blipFill>
        <p:spPr>
          <a:xfrm>
            <a:off x="2357280" y="714240"/>
            <a:ext cx="5397480" cy="1214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rcRect l="21413" t="23440" r="6112" b="30664"/>
          <a:stretch/>
        </p:blipFill>
        <p:spPr>
          <a:xfrm>
            <a:off x="357120" y="2571840"/>
            <a:ext cx="87868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300" spc="-1" strike="noStrike">
                <a:solidFill>
                  <a:srgbClr val="572314"/>
                </a:solidFill>
                <a:latin typeface="Arial"/>
              </a:rPr>
              <a:t>Gli assi culturali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44480" y="177300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2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asse dei linguag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2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asse matema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2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Asse scientifico- tecnolo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2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asse storico- soc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340000" y="6583320"/>
            <a:ext cx="49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.M. 139 del 22 Agosto 2007. Allega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300" spc="-1" strike="noStrike">
                <a:solidFill>
                  <a:srgbClr val="572314"/>
                </a:solidFill>
                <a:latin typeface="Arial"/>
              </a:rPr>
              <a:t>Gli assi culturali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03280" y="10522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3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’asse dei linguagg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3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dronanza della lingua ital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3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tilizzare una lingua stran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3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tilizzare gli strumenti per la fruizione consapevole del patrimonio artistico e letter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3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tilizzare e produrre testi multimed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competenza digitale, contenuta nell’asse dei linguaggi, è comune a tutti gli assi, sia per favorire l’accesso ai saperi sia  per rafforzare le potenzialità espressive individu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31640" y="544464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572314"/>
                </a:solidFill>
                <a:latin typeface="Arial"/>
              </a:rPr>
              <a:t>Finalità</a:t>
            </a:r>
            <a:br>
              <a:rPr sz="3500"/>
            </a:b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“promozione del pieno sviluppo della persona”</a:t>
            </a:r>
            <a:br>
              <a:rPr sz="2500"/>
            </a:br>
            <a:r>
              <a:rPr b="0" lang="it-IT" sz="3500" spc="-1" strike="noStrike">
                <a:solidFill>
                  <a:srgbClr val="572314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7280" y="-3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 SCUOLA  ACCOMPAGNA L’ALUNNO NEL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laborare il senso della propria esperi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muovere la cittadinanza at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cquisire gli alfabeti di base della 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DUCARE -ISTRU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03280" y="2636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572314"/>
                </a:solidFill>
                <a:latin typeface="Arial"/>
              </a:rPr>
              <a:t>Cittadinanza e Costituzione</a:t>
            </a:r>
            <a:br>
              <a:rPr sz="3500"/>
            </a:br>
            <a:br>
              <a:rPr sz="3500"/>
            </a:br>
            <a:br>
              <a:rPr sz="3500"/>
            </a:br>
            <a:r>
              <a:rPr b="0" lang="it-IT" sz="1400" spc="-1" strike="noStrike">
                <a:solidFill>
                  <a:srgbClr val="572314"/>
                </a:solidFill>
                <a:latin typeface="Arial"/>
              </a:rPr>
              <a:t>4 marzo 2009</a:t>
            </a:r>
            <a:endParaRPr b="0" lang="en-US" sz="1400" spc="-1" strike="noStrike">
              <a:solidFill>
                <a:srgbClr val="5723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6756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572314"/>
                </a:solidFill>
                <a:latin typeface="Verdana"/>
              </a:rPr>
              <a:t>ICT E DIDATTICA</a:t>
            </a:r>
            <a:br>
              <a:rPr sz="2200"/>
            </a:br>
            <a:endParaRPr b="0" lang="en-US" sz="22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03280" y="1700280"/>
            <a:ext cx="7283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Gill Sans MT"/>
              </a:rPr>
              <a:t>La tecnologia come metodologia didattica non implica in sé un cambiamento necessariamente migliorativo, al contrario sono le modalità ed i contesti d’uso a determinarne la valenza. “Educare con i  media  significa mettere in grado di impiegare i media a scopo di apprendimento” (Calvani, 200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900000" y="1773360"/>
            <a:ext cx="784728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lustrare il quadro teorico di riferimento e le riflessioni in atto (epistemologia e sociologia della conoscenza), presupposto per l’uso delle ICT nella didattica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flettere su come l’uso,  nella didattica,  delle tecnologie dell’informazione e della comunicazione (ICT), possa influire sul processo di insegnamento-apprendimento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flettere sui profondi cambiamenti che l’uso dell’ICT richiede nella programmazione curricolare e nell’organizzazione didattica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ere la consapevolezza dei possibili usi dell’ICT nella didattic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900000" y="1484280"/>
            <a:ext cx="80647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IMA DI INIZIARE IL CORSO DI FORMAZIONE OCCORR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1187280" y="18900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572314"/>
                </a:solidFill>
                <a:latin typeface="Gill Sans MT"/>
              </a:rPr>
              <a:t>Perché l’introduzione delle ICT nella class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547640" y="476280"/>
            <a:ext cx="723600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Gill Sans MT"/>
              </a:rPr>
              <a:t>Gli ambienti di apprendimen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ill Sans MT"/>
              </a:rPr>
              <a:t>La “didattica” concerne il complesso di interventi volti a progettare, allestire, gestire, valutare “ambienti di apprendimento”, cioè speciali contesti ritenuti atti a favorire particolari processi acquisitivi in soggetti inesperti, risultanti da un'idonea integrazione di artefatti culturali, normativi, tecnologici e di specifiche azioni uma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ill Sans MT"/>
              </a:rPr>
              <a:t>(Calvan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1042920" y="685800"/>
            <a:ext cx="7643880" cy="58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ctr">
              <a:lnSpc>
                <a:spcPct val="100000"/>
              </a:lnSpc>
              <a:tabLst>
                <a:tab algn="l" pos="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alvan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ctr">
              <a:lnSpc>
                <a:spcPct val="100000"/>
              </a:lnSpc>
              <a:tabLst>
                <a:tab algn="l" pos="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ctr">
              <a:lnSpc>
                <a:spcPct val="100000"/>
              </a:lnSpc>
              <a:tabLst>
                <a:tab algn="l" pos="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>
              <a:lnSpc>
                <a:spcPct val="140000"/>
              </a:lnSpc>
              <a:tabLst>
                <a:tab algn="l" pos="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Ogni concezione didattica si richiama, anche in forma implicita, a particolari teorie della conoscenza ed a più generali assunzioni valoriali. Solo una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Verdana"/>
              </a:rPr>
              <a:t>concezione ingenua vede le tecnologie come appendici neutre, statiche, povere di significatività teorica e culturale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. Calate nei diversi contesti socio-culturali, esse si coniugano ed amplificano determinati assunti teorici, atteggiamenti, orientamenti del pensiero e della cultur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ctr">
              <a:lnSpc>
                <a:spcPct val="140000"/>
              </a:lnSpc>
              <a:tabLst>
                <a:tab algn="l" pos="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304920" y="152280"/>
            <a:ext cx="84582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ctr">
              <a:lnSpc>
                <a:spcPct val="100000"/>
              </a:lnSpc>
              <a:tabLst>
                <a:tab algn="l" pos="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ctr">
              <a:lnSpc>
                <a:spcPct val="100000"/>
              </a:lnSpc>
              <a:tabLst>
                <a:tab algn="l" pos="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Fra i tre livelli,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teorico-epistemico,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didattico-progettual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tecnologico,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si generano dinamich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di vario tip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Object 3" descr=""/>
          <p:cNvPicPr/>
          <p:nvPr/>
        </p:nvPicPr>
        <p:blipFill>
          <a:blip r:embed="rId1"/>
          <a:stretch/>
        </p:blipFill>
        <p:spPr>
          <a:xfrm>
            <a:off x="1332000" y="4581360"/>
            <a:ext cx="3938400" cy="2055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1547640" y="189000"/>
            <a:ext cx="6804360" cy="69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Centralità dell’apprendere più che dell’insegnare.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0000"/>
                </a:solidFill>
                <a:latin typeface="Gill Sans MT"/>
              </a:rPr>
              <a:t>Sapere</a:t>
            </a: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come “trasmissione”,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come “elaborazione di informazione”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o come “costruzione attiva di significati”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Esso ha un carattere prevalentemente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individuale o negoziale,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astratto o concreto-contestualizzato,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indivisibile o scomponibile,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univoco o multidimensionale?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835280" y="1773360"/>
            <a:ext cx="6402240" cy="47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La conoscenza è prodotto di una  costruzione attiva del soggetto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ha carattere “situato”, ancorato nel contesto concreto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si svolge attraverso particolari forme di collaborazione e negoziazione sociale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it-IT" sz="3000" spc="-1" strike="noStrike">
                <a:solidFill>
                  <a:srgbClr val="4f271c"/>
                </a:solidFill>
                <a:latin typeface="Gill Sans MT"/>
              </a:rPr>
              <a:t>Jonassen</a:t>
            </a:r>
            <a:r>
              <a:rPr b="0" lang="it-IT" sz="3000" spc="-1" strike="noStrike">
                <a:solidFill>
                  <a:srgbClr val="000000"/>
                </a:solidFill>
                <a:latin typeface="Gill Sans MT"/>
              </a:rPr>
              <a:t>, 1994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763640" y="6206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f271c"/>
                </a:solidFill>
                <a:latin typeface="Gill Sans MT"/>
              </a:rPr>
              <a:t>Costruttivism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1403280" y="189000"/>
            <a:ext cx="7274160" cy="76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In primo piano viene posta la “costruzione del significato” sottolineando il caratter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ill Sans MT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attiv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ill Sans MT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polisemic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ill Sans MT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non predeterminabil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5000"/>
              </a:lnSpc>
              <a:tabLst>
                <a:tab algn="l" pos="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r>
              <a:rPr b="1" lang="it-IT" sz="2400" spc="-1" strike="noStrike">
                <a:solidFill>
                  <a:srgbClr val="4f271c"/>
                </a:solidFill>
                <a:latin typeface="Arial"/>
              </a:rPr>
              <a:t>Il costruttivismo è pervaso da una esigenza di “rifiuto” vers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5000"/>
              </a:lnSpc>
              <a:tabLst>
                <a:tab algn="l" pos="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una figura di insegnante come fornitore di informazioni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il distacco della scuola dalla vita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il carattere “inerte” della conoscenza che gli alunni dovrebbero acquisir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ill Sans MT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ill Sans MT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ill Sans MT"/>
              <a:buChar char="•"/>
              <a:tabLst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1692360" y="404640"/>
            <a:ext cx="655488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4f271c"/>
                </a:solidFill>
                <a:latin typeface="Gill Sans MT"/>
              </a:rPr>
              <a:t>Gli ambienti di apprendimento di taglio costruttivistico sono orientati 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4f271c"/>
              </a:buClr>
              <a:buFont typeface="Gill Sans MT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 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dare enfasi alla costruzione della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conoscenza e non alla sua riproduzio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4f271c"/>
              </a:buClr>
              <a:buFont typeface="Gill Sans MT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 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evitare eccessive semplificazioni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rappresentando la naturale complessità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del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mondo rea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4f271c"/>
              </a:buClr>
              <a:buFont typeface="Gill Sans MT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 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presentare compiti autentici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(contestualizzare piuttosto che astrarr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4f271c"/>
              </a:buClr>
              <a:buFont typeface="Gill Sans MT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 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offrire ambienti di apprendimento assunti dal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mondo reale, basati su casi, piuttosto che su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sequenze istruttive predetermin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1187280" y="1125360"/>
            <a:ext cx="7423200" cy="40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4f271c"/>
                </a:solidFill>
                <a:latin typeface="Gill Sans MT"/>
              </a:rPr>
              <a:t>(2) Gli ambienti di apprendimento di taglio costruttivistico sono orientati 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4f271c"/>
              </a:buClr>
              <a:buFont typeface="Gill Sans MT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 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offrire rappresentazioni multiple della realtà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4f271c"/>
              </a:buClr>
              <a:buFont typeface="Gill Sans MT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 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alimentare pratiche riflessiv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4f271c"/>
              </a:buClr>
              <a:buFont typeface="Gill Sans MT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 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permettere costruzioni di conoscenze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dipendenti dal contesto e dal contenut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4f271c"/>
              </a:buClr>
              <a:buFont typeface="Gill Sans MT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 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favorire la costruzione cooperativa della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conoscenza, 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4f271c"/>
                </a:solidFill>
                <a:latin typeface="Gill Sans MT"/>
              </a:rPr>
              <a:t>attraverso la negoziazione soci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3673440" cy="48006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26104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2"/>
          <a:stretch/>
        </p:blipFill>
        <p:spPr>
          <a:xfrm>
            <a:off x="1332000" y="0"/>
            <a:ext cx="7812000" cy="685332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6"/>
          <p:cNvSpPr/>
          <p:nvPr/>
        </p:nvSpPr>
        <p:spPr>
          <a:xfrm>
            <a:off x="2340000" y="314172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1692360" y="1197000"/>
            <a:ext cx="6983280" cy="1143000"/>
          </a:xfrm>
          <a:prstGeom prst="rect">
            <a:avLst/>
          </a:prstGeom>
          <a:solidFill>
            <a:srgbClr val="c7ac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Gill Sans MT"/>
              </a:rPr>
              <a:t>Community of learners (Brown, 1996; Ligorio, 1994)</a:t>
            </a:r>
            <a:r>
              <a:rPr b="1" lang="it-IT" sz="4300" spc="-1" strike="noStrike">
                <a:solidFill>
                  <a:srgbClr val="000000"/>
                </a:solidFill>
                <a:latin typeface="Gill Sans MT"/>
              </a:rPr>
              <a:t> </a:t>
            </a:r>
            <a:br>
              <a:rPr sz="4300"/>
            </a:b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1692360" y="2852640"/>
            <a:ext cx="6983280" cy="1143000"/>
          </a:xfrm>
          <a:prstGeom prst="rect">
            <a:avLst/>
          </a:prstGeom>
          <a:solidFill>
            <a:srgbClr val="c7ac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Gill Sans MT"/>
              </a:rPr>
              <a:t>Apprendistato cognitivo (Collins e Holum, </a:t>
            </a:r>
            <a:r>
              <a:rPr b="0" lang="it-IT" sz="24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Gill Sans MT"/>
              </a:rPr>
              <a:t>1991; Collins, Brown e Newman, 1995)</a:t>
            </a:r>
            <a:r>
              <a:rPr b="0" lang="it-IT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1692360" y="4221000"/>
            <a:ext cx="6983280" cy="936720"/>
          </a:xfrm>
          <a:prstGeom prst="rect">
            <a:avLst/>
          </a:prstGeom>
          <a:solidFill>
            <a:srgbClr val="c7ac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Gill Sans MT"/>
              </a:rPr>
              <a:t>Progetto teorie per l’apprendimento basate su </a:t>
            </a:r>
            <a:r>
              <a:rPr b="0" lang="it-IT" sz="2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Gill Sans MT"/>
              </a:rPr>
              <a:t>tecnologie ipertestuali (CognitiveFlexibility theory - Spiro, 1995)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0"/>
          <p:cNvSpPr/>
          <p:nvPr/>
        </p:nvSpPr>
        <p:spPr>
          <a:xfrm>
            <a:off x="1332000" y="0"/>
            <a:ext cx="749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572314"/>
                </a:solidFill>
                <a:latin typeface="Gill Sans MT"/>
              </a:rPr>
              <a:t>Dai principi del</a:t>
            </a:r>
            <a:r>
              <a:rPr b="1" lang="it-IT" sz="28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it-IT" sz="2800" spc="-1" strike="noStrike">
                <a:solidFill>
                  <a:srgbClr val="572314"/>
                </a:solidFill>
                <a:latin typeface="Gill Sans MT"/>
              </a:rPr>
              <a:t>costruttivismo derivano vari modelli didattici. I più noti sono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1476360" y="1052640"/>
            <a:ext cx="7272360" cy="129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2"/>
          <p:cNvSpPr/>
          <p:nvPr/>
        </p:nvSpPr>
        <p:spPr>
          <a:xfrm>
            <a:off x="1547640" y="2708280"/>
            <a:ext cx="7272360" cy="129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1835280" y="5661000"/>
            <a:ext cx="6553080" cy="934920"/>
          </a:xfrm>
          <a:prstGeom prst="rect">
            <a:avLst/>
          </a:prstGeom>
          <a:solidFill>
            <a:srgbClr val="c7ac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it-IT" sz="2200" spc="-1" strike="noStrike">
                <a:solidFill>
                  <a:srgbClr val="ffffff"/>
                </a:solidFill>
                <a:latin typeface="Gill Sans MT"/>
              </a:rPr>
              <a:t>Ambienti di apprendimento intenzionale sostenuto al computer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900" spc="-1" strike="noStrike">
                <a:solidFill>
                  <a:srgbClr val="572314"/>
                </a:solidFill>
                <a:latin typeface="Arial"/>
              </a:rPr>
              <a:t>La LIM</a:t>
            </a:r>
            <a:br>
              <a:rPr sz="3900"/>
            </a:br>
            <a:r>
              <a:rPr b="0" lang="it-IT" sz="3900" spc="-1" strike="noStrike">
                <a:solidFill>
                  <a:srgbClr val="572314"/>
                </a:solidFill>
                <a:latin typeface="Arial"/>
              </a:rPr>
              <a:t>Lavagna Interattiva Multimediale</a:t>
            </a:r>
            <a:endParaRPr b="0" lang="en-US" sz="39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428480" y="18568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RE LA CLASSE AL DIGI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he di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ambiente di apprendimento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 di formazione in cui tutti possono interagire con quanto avviene sullo scher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6096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300" spc="-1" strike="noStrike">
                <a:solidFill>
                  <a:srgbClr val="572314"/>
                </a:solidFill>
                <a:latin typeface="Gill Sans MT"/>
              </a:rPr>
              <a:t>Cornice culturale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187280" y="2349360"/>
            <a:ext cx="1905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certez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187280" y="1197000"/>
            <a:ext cx="7643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a una società stabile ad una in continuo cambiamen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3708360" y="2349360"/>
            <a:ext cx="198108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mutevolezz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6732720" y="234936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luralism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2590920" y="3505320"/>
            <a:ext cx="4190760" cy="2286000"/>
          </a:xfrm>
          <a:prstGeom prst="downArrowCallout">
            <a:avLst>
              <a:gd name="adj1" fmla="val 21271"/>
              <a:gd name="adj2" fmla="val 28678"/>
              <a:gd name="adj3" fmla="val 19269"/>
              <a:gd name="adj4" fmla="val 6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Vecchie forme di analfabetizzazi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Analfabetizzazione di ritorn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nadeguatezza cultura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enalizzazione nell’accesso delle TI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1979640" y="2852640"/>
            <a:ext cx="936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9"/>
          <p:cNvSpPr/>
          <p:nvPr/>
        </p:nvSpPr>
        <p:spPr>
          <a:xfrm flipH="1">
            <a:off x="6300360" y="2852640"/>
            <a:ext cx="13669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500720" y="278604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3352680" y="5791320"/>
            <a:ext cx="274320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0000"/>
                </a:solidFill>
                <a:latin typeface="Verdana"/>
              </a:rPr>
              <a:t>ambivalenza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1403280" y="6381720"/>
            <a:ext cx="71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alle Indicazioni per  il curricolo della scuola dell'infanzia e del primo ciclo d’istruzio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71720" y="5285880"/>
            <a:ext cx="7713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72314"/>
                </a:solidFill>
                <a:latin typeface="Arial"/>
              </a:rPr>
              <a:t>Una delle "proprietà" della LIM è quella di </a:t>
            </a:r>
            <a:r>
              <a:rPr b="0" i="1" lang="it-IT" sz="1400" spc="-1" strike="noStrike">
                <a:solidFill>
                  <a:srgbClr val="572314"/>
                </a:solidFill>
                <a:latin typeface="Arial"/>
              </a:rPr>
              <a:t>allinearsi</a:t>
            </a:r>
            <a:r>
              <a:rPr b="0" lang="it-IT" sz="1400" spc="-1" strike="noStrike">
                <a:solidFill>
                  <a:srgbClr val="572314"/>
                </a:solidFill>
                <a:latin typeface="Arial"/>
              </a:rPr>
              <a:t> al linguaggio, delle immagini, dei filmati, della fruizione interattiva, cui le nuove generazioni e i loro stili d’apprendimento sono ormai abituate. </a:t>
            </a:r>
            <a:endParaRPr b="0" lang="en-US" sz="14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2571840" y="1643040"/>
            <a:ext cx="4632120" cy="3451320"/>
          </a:xfrm>
          <a:prstGeom prst="rect">
            <a:avLst/>
          </a:prstGeom>
          <a:ln w="0">
            <a:noFill/>
          </a:ln>
        </p:spPr>
      </p:pic>
      <p:sp>
        <p:nvSpPr>
          <p:cNvPr id="317" name="Titolo 1"/>
          <p:cNvSpPr/>
          <p:nvPr/>
        </p:nvSpPr>
        <p:spPr>
          <a:xfrm>
            <a:off x="1587600" y="426960"/>
            <a:ext cx="749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300" spc="-1" strike="noStrike">
                <a:solidFill>
                  <a:srgbClr val="572314"/>
                </a:solidFill>
                <a:latin typeface="Arial"/>
              </a:rPr>
              <a:t>Lim 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572314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572314"/>
                </a:solidFill>
                <a:latin typeface="Arial"/>
              </a:rPr>
              <a:t>- LEZIONI DI TIPO INTERATTIVO/DIMOSTRATIVO, COOPERATIVO, COSTRUTTIVO; </a:t>
            </a:r>
            <a:br>
              <a:rPr sz="1400"/>
            </a:br>
            <a:r>
              <a:rPr b="1" lang="it-IT" sz="1400" spc="-1" strike="noStrike">
                <a:solidFill>
                  <a:srgbClr val="572314"/>
                </a:solidFill>
                <a:latin typeface="Arial"/>
              </a:rPr>
              <a:t>- LEZIONE FRONTALE</a:t>
            </a:r>
            <a:br>
              <a:rPr sz="1400"/>
            </a:br>
            <a:r>
              <a:rPr b="1" lang="it-IT" sz="1400" spc="-1" strike="noStrike">
                <a:solidFill>
                  <a:srgbClr val="572314"/>
                </a:solidFill>
                <a:latin typeface="Arial"/>
              </a:rPr>
              <a:t>- CONDURRE DUNQUE ATTIVITÀ COLLABORATIVE E LABORATORIALI</a:t>
            </a:r>
            <a:br>
              <a:rPr sz="1400"/>
            </a:br>
            <a:r>
              <a:rPr b="1" lang="it-IT" sz="1400" spc="-1" strike="noStrike">
                <a:solidFill>
                  <a:srgbClr val="572314"/>
                </a:solidFill>
                <a:latin typeface="Arial"/>
              </a:rPr>
              <a:t>- SVOLGERE LE INTERROGAZIONI</a:t>
            </a:r>
            <a:br>
              <a:rPr sz="1400"/>
            </a:br>
            <a:r>
              <a:rPr b="1" lang="it-IT" sz="1400" spc="-1" strike="noStrike">
                <a:solidFill>
                  <a:srgbClr val="572314"/>
                </a:solidFill>
                <a:latin typeface="Arial"/>
              </a:rPr>
              <a:t>- LA NAVIGAZIONE E RICERCA SU WEB</a:t>
            </a:r>
            <a:br>
              <a:rPr sz="1400"/>
            </a:br>
            <a:r>
              <a:rPr b="1" lang="it-IT" sz="1400" spc="-1" strike="noStrike">
                <a:solidFill>
                  <a:srgbClr val="572314"/>
                </a:solidFill>
                <a:latin typeface="Arial"/>
              </a:rPr>
              <a:t>-  PER PRESENTARE IN MODO INNOVATIVO STUDI ED ELABORATI REALIZZATI DAGLI STUDENTI.</a:t>
            </a:r>
            <a:endParaRPr b="0" lang="en-US" sz="14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577960" y="1642680"/>
            <a:ext cx="640080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8dc765"/>
                </a:solidFill>
                <a:uFillTx/>
                <a:latin typeface="Arial"/>
                <a:hlinkClick r:id="rId1"/>
              </a:rPr>
              <a:t>La lavagna interattiva può essere impiegata in aula 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2" name="Picture 4" descr=""/>
          <p:cNvPicPr/>
          <p:nvPr/>
        </p:nvPicPr>
        <p:blipFill>
          <a:blip r:embed="rId1"/>
          <a:srcRect l="8107" t="-5230" r="32524" b="78189"/>
          <a:stretch/>
        </p:blipFill>
        <p:spPr>
          <a:xfrm>
            <a:off x="0" y="-819000"/>
            <a:ext cx="9144000" cy="38462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6"/>
          <p:cNvSpPr/>
          <p:nvPr/>
        </p:nvSpPr>
        <p:spPr>
          <a:xfrm>
            <a:off x="1042920" y="2781360"/>
            <a:ext cx="3816360" cy="35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5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72314"/>
                </a:solidFill>
                <a:latin typeface="Gill Sans MT"/>
              </a:rPr>
              <a:t>GRAZIE PER LA CORTESE ATTENZION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itolo 1"/>
          <p:cNvSpPr/>
          <p:nvPr/>
        </p:nvSpPr>
        <p:spPr>
          <a:xfrm>
            <a:off x="395280" y="692280"/>
            <a:ext cx="7993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bb4a2b"/>
                </a:solidFill>
                <a:latin typeface="Gill Sans MT"/>
              </a:rPr>
              <a:t> </a:t>
            </a:r>
            <a:br>
              <a:rPr sz="3400"/>
            </a:br>
            <a:r>
              <a:rPr b="0" lang="it-IT" sz="3400" spc="-1" strike="noStrike">
                <a:solidFill>
                  <a:srgbClr val="4f271c"/>
                </a:solidFill>
                <a:latin typeface="Gill Sans MT"/>
              </a:rPr>
              <a:t>Multimedialità e </a:t>
            </a:r>
            <a:r>
              <a:rPr b="0" lang="it-IT" sz="3200" spc="-1" strike="noStrike">
                <a:solidFill>
                  <a:srgbClr val="3e180e"/>
                </a:solidFill>
                <a:latin typeface="Gill Sans MT"/>
              </a:rPr>
              <a:t>Didattica </a:t>
            </a:r>
            <a:br>
              <a:rPr sz="47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300" spc="-1" strike="noStrike">
                <a:solidFill>
                  <a:srgbClr val="572314"/>
                </a:solidFill>
                <a:latin typeface="Arial"/>
              </a:rPr>
              <a:t>Cambiamento</a:t>
            </a:r>
            <a:br>
              <a:rPr sz="4300"/>
            </a:br>
            <a:r>
              <a:rPr b="0" lang="it-IT" sz="1600" spc="-1" strike="noStrike">
                <a:solidFill>
                  <a:srgbClr val="572314"/>
                </a:solidFill>
                <a:latin typeface="Arial"/>
              </a:rPr>
              <a:t>…nel contesto</a:t>
            </a:r>
            <a:r>
              <a:rPr b="0" lang="it-IT" sz="4300" spc="-1" strike="noStrike">
                <a:solidFill>
                  <a:srgbClr val="572314"/>
                </a:solidFill>
                <a:latin typeface="Aria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31640" y="134100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50b5d"/>
                </a:solidFill>
                <a:latin typeface="Arial"/>
              </a:rPr>
              <a:t>Porre  nuovi probl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50b5d"/>
                </a:solidFill>
                <a:latin typeface="Arial"/>
              </a:rPr>
              <a:t>Escogitare nuove strate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50b5d"/>
                </a:solidFill>
                <a:latin typeface="Arial"/>
              </a:rPr>
              <a:t>Prevedere  incog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50b5d"/>
                </a:solidFill>
                <a:latin typeface="Arial"/>
              </a:rPr>
              <a:t>Rispondere a nuove s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4"/>
          <p:cNvGrpSpPr/>
          <p:nvPr/>
        </p:nvGrpSpPr>
        <p:grpSpPr>
          <a:xfrm>
            <a:off x="5510160" y="2785320"/>
            <a:ext cx="2946960" cy="2946600"/>
            <a:chOff x="5510160" y="2785320"/>
            <a:chExt cx="2946960" cy="2946600"/>
          </a:xfrm>
        </p:grpSpPr>
        <p:sp>
          <p:nvSpPr>
            <p:cNvPr id="252" name="AutoShape 5"/>
            <p:cNvSpPr/>
            <p:nvPr/>
          </p:nvSpPr>
          <p:spPr>
            <a:xfrm>
              <a:off x="5876640" y="3305160"/>
              <a:ext cx="2171880" cy="2053800"/>
            </a:xfrm>
            <a:prstGeom prst="pie">
              <a:avLst/>
            </a:prstGeom>
            <a:gradFill rotWithShape="0">
              <a:gsLst>
                <a:gs pos="0">
                  <a:srgbClr val="a97e5b"/>
                </a:gs>
                <a:gs pos="100000">
                  <a:srgbClr val="feb80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150b5d"/>
                  </a:solidFill>
                  <a:latin typeface="Arial"/>
                </a:rPr>
                <a:t>cambiament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eb80a"/>
                  </a:solidFill>
                  <a:latin typeface="Arial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eb80a"/>
                  </a:solidFill>
                  <a:latin typeface="Arial"/>
                </a:rPr>
                <a:t> </a:t>
              </a:r>
              <a:r>
                <a:rPr b="0" lang="it-IT" sz="2400" spc="-1" strike="noStrike">
                  <a:solidFill>
                    <a:srgbClr val="4f271c"/>
                  </a:solidFill>
                  <a:latin typeface="Arial"/>
                </a:rPr>
                <a:t>innovazion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6"/>
            <p:cNvSpPr/>
            <p:nvPr/>
          </p:nvSpPr>
          <p:spPr>
            <a:xfrm rot="9366600">
              <a:off x="5866560" y="3141720"/>
              <a:ext cx="2233800" cy="2233440"/>
            </a:xfrm>
            <a:custGeom>
              <a:avLst/>
              <a:gdLst>
                <a:gd name="textAreaLeft" fmla="*/ 326880 w 2233800"/>
                <a:gd name="textAreaRight" fmla="*/ 1906920 w 2233800"/>
                <a:gd name="textAreaTop" fmla="*/ 327240 h 2233440"/>
                <a:gd name="textAreaBottom" fmla="*/ 1906200 h 22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46" y="16485"/>
                  </a:moveTo>
                  <a:cubicBezTo>
                    <a:pt x="4328" y="19250"/>
                    <a:pt x="7455" y="20905"/>
                    <a:pt x="10800" y="20905"/>
                  </a:cubicBezTo>
                  <a:cubicBezTo>
                    <a:pt x="14929" y="20904"/>
                    <a:pt x="18643" y="18392"/>
                    <a:pt x="20179" y="14558"/>
                  </a:cubicBezTo>
                  <a:lnTo>
                    <a:pt x="20824" y="14817"/>
                  </a:lnTo>
                  <a:cubicBezTo>
                    <a:pt x="19183" y="18914"/>
                    <a:pt x="15213" y="21599"/>
                    <a:pt x="10800" y="21600"/>
                  </a:cubicBezTo>
                  <a:cubicBezTo>
                    <a:pt x="7225" y="21600"/>
                    <a:pt x="3882" y="19831"/>
                    <a:pt x="1871" y="16876"/>
                  </a:cubicBezTo>
                  <a:lnTo>
                    <a:pt x="-361" y="18396"/>
                  </a:lnTo>
                  <a:lnTo>
                    <a:pt x="443" y="14161"/>
                  </a:lnTo>
                  <a:lnTo>
                    <a:pt x="4678" y="14966"/>
                  </a:lnTo>
                  <a:lnTo>
                    <a:pt x="2446" y="16485"/>
                  </a:lnTo>
                  <a:close/>
                </a:path>
              </a:pathLst>
            </a:custGeom>
            <a:gradFill rotWithShape="0">
              <a:gsLst>
                <a:gs pos="0">
                  <a:srgbClr val="a97e5b"/>
                </a:gs>
                <a:gs pos="100000">
                  <a:srgbClr val="feb80a"/>
                </a:gs>
              </a:gsLst>
              <a:lin ang="17634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 Box 7"/>
          <p:cNvSpPr/>
          <p:nvPr/>
        </p:nvSpPr>
        <p:spPr>
          <a:xfrm>
            <a:off x="1763640" y="4437000"/>
            <a:ext cx="640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72314"/>
                </a:solidFill>
                <a:latin typeface="Gill Sans MT"/>
              </a:rPr>
              <a:t>METTERSI IN GIOC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72314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72314"/>
                </a:solidFill>
                <a:latin typeface="Gill Sans MT"/>
              </a:rPr>
              <a:t>Più risch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72314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72314"/>
                </a:solidFill>
                <a:latin typeface="Gill Sans MT"/>
              </a:rPr>
              <a:t>Più possibilit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489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72314"/>
                </a:solidFill>
                <a:latin typeface="Gill Sans MT"/>
              </a:rPr>
              <a:t>RIFLESSIONE:</a:t>
            </a:r>
            <a:br>
              <a:rPr sz="3000"/>
            </a:br>
            <a:r>
              <a:rPr b="0" lang="it-IT" sz="3000" spc="-1" strike="noStrike">
                <a:solidFill>
                  <a:srgbClr val="572314"/>
                </a:solidFill>
                <a:latin typeface="Gill Sans MT"/>
              </a:rPr>
              <a:t>il cambiamento riguarda …</a:t>
            </a:r>
            <a:endParaRPr b="0" lang="en-US" sz="30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618920" y="2057040"/>
            <a:ext cx="6383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a97e5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la socie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a97e5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Il bamb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a97e5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Il modo di apprend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2700360" y="4797360"/>
            <a:ext cx="485928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72314"/>
                </a:solidFill>
                <a:latin typeface="Arial"/>
              </a:rPr>
              <a:t>… </a:t>
            </a:r>
            <a:r>
              <a:rPr b="0" lang="it-IT" sz="2400" spc="-1" strike="noStrike">
                <a:solidFill>
                  <a:srgbClr val="572314"/>
                </a:solidFill>
                <a:latin typeface="Arial"/>
              </a:rPr>
              <a:t>e  il modo di insegnar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572314"/>
                </a:solidFill>
                <a:latin typeface="Arial"/>
              </a:rPr>
              <a:t>Esiste una “disconnessione” </a:t>
            </a:r>
            <a:br>
              <a:rPr sz="3500"/>
            </a:br>
            <a:r>
              <a:rPr b="0" lang="it-IT" sz="3500" spc="-1" strike="noStrike">
                <a:solidFill>
                  <a:srgbClr val="572314"/>
                </a:solidFill>
                <a:latin typeface="Arial"/>
              </a:rPr>
              <a:t>tra scuola e nuove generazioni</a:t>
            </a:r>
            <a:endParaRPr b="0" lang="en-US" sz="35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digital n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(M. Prensk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8dc765"/>
                </a:solidFill>
                <a:uFillTx/>
                <a:latin typeface="Arial"/>
                <a:hlinkClick r:id="rId1"/>
              </a:rPr>
              <a:t>http://www.youtube.com/watch?v=aEFKfXiCbL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dc765"/>
                </a:solidFill>
                <a:uFillTx/>
                <a:latin typeface="Arial"/>
                <a:hlinkClick r:id="rId2"/>
              </a:rPr>
              <a:t>http://www.youtube.com/watch?v=nkpulteM_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gap generazionale è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ostanzia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riguarda i processi di pensiero e di elaborazione delle informa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"/>
          <p:cNvPicPr/>
          <p:nvPr/>
        </p:nvPicPr>
        <p:blipFill>
          <a:blip r:embed="rId1"/>
          <a:srcRect l="12472" t="14004" r="12718" b="13388"/>
          <a:stretch/>
        </p:blipFill>
        <p:spPr>
          <a:xfrm>
            <a:off x="0" y="0"/>
            <a:ext cx="939636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908000" y="1412640"/>
            <a:ext cx="6624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628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8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8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800" indent="-203400">
              <a:lnSpc>
                <a:spcPct val="13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ill Sans MT"/>
              </a:rPr>
              <a:t>riconoscere le potenzialità delle nuove tec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800" indent="-203400">
              <a:lnSpc>
                <a:spcPct val="13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ill Sans MT"/>
              </a:rPr>
              <a:t>trovare nuovi canali di comunicazione e utilizzare una pluralità di linguaggi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800" indent="-203400">
              <a:lnSpc>
                <a:spcPct val="13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ill Sans MT"/>
              </a:rPr>
              <a:t>assumere l’atteggiamento di sfida e di ricer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800" indent="-203400">
              <a:lnSpc>
                <a:spcPct val="13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ill Sans MT"/>
              </a:rPr>
              <a:t>aprire proble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800" indent="-203400">
              <a:lnSpc>
                <a:spcPct val="13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ill Sans MT"/>
              </a:rPr>
              <a:t>cercare soluzioni molteplici e crea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1258920" y="333360"/>
            <a:ext cx="749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300" spc="-1" strike="noStrike">
                <a:solidFill>
                  <a:srgbClr val="572314"/>
                </a:solidFill>
                <a:latin typeface="Gill Sans MT"/>
              </a:rPr>
              <a:t>Nuova professionalità docent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403280" y="134100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2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EDUCARE ALLA COMPLESS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92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RIPENSAMENTO DI TUTTO I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Nuove strategie fo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Nuovi modelli didat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92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PER ORIENTARE ALLA RICERCA DI SEN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187280" y="18900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300" spc="-1" strike="noStrike">
                <a:solidFill>
                  <a:srgbClr val="572314"/>
                </a:solidFill>
                <a:latin typeface="Gill Sans MT"/>
              </a:rPr>
              <a:t>Nuova professionalità docent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476360" y="5229360"/>
            <a:ext cx="7310520" cy="12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GLI ESITI DEGLI ALUNNI DIPENDONO ANCHE DALLE MODALITÀ DI LAVORO DEGLI INSEGNANTI E DAI SERVIZI DI SUPPORTO ALLO STUDIO  CHE L’ISTITUZIONE È IN GRADO DI PREDISPOR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6:32:00Z</dcterms:created>
  <dc:creator>-</dc:creator>
  <dc:description/>
  <dc:language>en-US</dc:language>
  <cp:lastModifiedBy>Loredana</cp:lastModifiedBy>
  <dcterms:modified xsi:type="dcterms:W3CDTF">2011-09-06T23:35:28Z</dcterms:modified>
  <cp:revision>170</cp:revision>
  <dc:subject/>
  <dc:title>Diapositiva 1</dc:title>
</cp:coreProperties>
</file>